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png" ContentType="image/png"/>
  <Override PartName="/ppt/media/image27.png" ContentType="image/png"/>
  <Override PartName="/ppt/media/image26.png" ContentType="image/png"/>
  <Override PartName="/ppt/media/image23.png" ContentType="image/png"/>
  <Override PartName="/ppt/media/image5.jpeg" ContentType="image/jpeg"/>
  <Override PartName="/ppt/media/image20.wmf" ContentType="image/x-wmf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8.png" ContentType="image/png"/>
  <Override PartName="/ppt/media/image33.png" ContentType="image/png"/>
  <Override PartName="/ppt/media/image13.png" ContentType="image/png"/>
  <Override PartName="/ppt/media/image17.wmf" ContentType="image/x-wmf"/>
  <Override PartName="/ppt/media/image9.png" ContentType="image/png"/>
  <Override PartName="/ppt/media/image10.png" ContentType="image/png"/>
  <Override PartName="/ppt/media/image4.jpeg" ContentType="image/jpeg"/>
  <Override PartName="/ppt/media/image25.png" ContentType="image/png"/>
  <Override PartName="/ppt/media/image18.wmf" ContentType="image/x-wmf"/>
  <Override PartName="/ppt/media/image2.jpeg" ContentType="image/jpeg"/>
  <Override PartName="/ppt/media/image30.png" ContentType="image/png"/>
  <Override PartName="/ppt/media/image3.jpeg" ContentType="image/jpeg"/>
  <Override PartName="/ppt/media/image1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6.png" ContentType="image/png"/>
  <Override PartName="/ppt/media/image19.wmf" ContentType="image/x-wmf"/>
  <Override PartName="/ppt/media/image21.wmf" ContentType="image/x-wmf"/>
  <Override PartName="/ppt/media/image2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624638" cy="98107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9D309-9B59-4D28-8009-3286CF7CE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F69B1-CCF5-4B5E-BF5F-F9DD96052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DF731-23DC-45B7-8A24-4F3EBB634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BBCED-04C1-4E9A-ADB4-5B387FDCD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BDAD8-E562-497F-A4BE-00F2CA47F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B458F-7118-40B0-BA50-DD4F708D2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36342-4FAE-4D3A-BDA7-AACCD0E59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2E97B-7F8B-4110-A946-F474B3896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BD4EF-0FC4-44A0-8266-34AD9D982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02D07-C977-4BAE-9287-B9B4F9EF2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5E30E-334E-4C90-B4F4-2E109250B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FB553-6222-46FD-A9F4-1F5BE26D4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B6DC3-DDFB-4E64-B171-B6A99087772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image" Target="../media/image17.wmf"/><Relationship Id="rId4" Type="http://schemas.openxmlformats.org/officeDocument/2006/relationships/image" Target="../media/image18.wmf"/><Relationship Id="rId5" Type="http://schemas.openxmlformats.org/officeDocument/2006/relationships/image" Target="../media/image19.wmf"/><Relationship Id="rId6" Type="http://schemas.openxmlformats.org/officeDocument/2006/relationships/image" Target="../media/image20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image" Target="../media/image22.png"/><Relationship Id="rId1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13.png"/><Relationship Id="rId11" Type="http://schemas.openxmlformats.org/officeDocument/2006/relationships/image" Target="../media/image15.png"/><Relationship Id="rId1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0880" y="3505320"/>
            <a:ext cx="8458200" cy="53316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79246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0066"/>
                </a:solidFill>
                <a:latin typeface="Arial"/>
              </a:rPr>
              <a:t>Power Quality Monitoring:</a:t>
            </a:r>
            <a:br>
              <a:rPr sz="4400"/>
            </a:br>
            <a:r>
              <a:rPr b="0" i="1" lang="en-GB" sz="4400" spc="-1" strike="noStrike">
                <a:solidFill>
                  <a:srgbClr val="000066"/>
                </a:solidFill>
                <a:latin typeface="Arial"/>
              </a:rPr>
              <a:t>Universal measurement tools for customers and networ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zeslogo_1" descr=""/>
          <p:cNvPicPr/>
          <p:nvPr/>
        </p:nvPicPr>
        <p:blipFill>
          <a:blip r:embed="rId1"/>
          <a:stretch/>
        </p:blipFill>
        <p:spPr>
          <a:xfrm>
            <a:off x="1905120" y="5334120"/>
            <a:ext cx="5257800" cy="1014120"/>
          </a:xfrm>
          <a:prstGeom prst="rect">
            <a:avLst/>
          </a:prstGeom>
          <a:ln w="0">
            <a:noFill/>
          </a:ln>
        </p:spPr>
      </p:pic>
      <p:pic>
        <p:nvPicPr>
          <p:cNvPr id="44" name="LMG95_Foto_Produktinfo" descr=""/>
          <p:cNvPicPr/>
          <p:nvPr/>
        </p:nvPicPr>
        <p:blipFill>
          <a:blip r:embed="rId2"/>
          <a:stretch/>
        </p:blipFill>
        <p:spPr>
          <a:xfrm>
            <a:off x="2286000" y="2666880"/>
            <a:ext cx="1523880" cy="1055880"/>
          </a:xfrm>
          <a:prstGeom prst="rect">
            <a:avLst/>
          </a:prstGeom>
          <a:ln w="0">
            <a:noFill/>
          </a:ln>
        </p:spPr>
      </p:pic>
      <p:pic>
        <p:nvPicPr>
          <p:cNvPr id="45" name="SYS61K_3Phasen_rgb_9x13_300dpi" descr=""/>
          <p:cNvPicPr/>
          <p:nvPr/>
        </p:nvPicPr>
        <p:blipFill>
          <a:blip r:embed="rId3"/>
          <a:stretch/>
        </p:blipFill>
        <p:spPr>
          <a:xfrm>
            <a:off x="3886200" y="2666880"/>
            <a:ext cx="1530360" cy="2210040"/>
          </a:xfrm>
          <a:prstGeom prst="rect">
            <a:avLst/>
          </a:prstGeom>
          <a:ln w="0">
            <a:noFill/>
          </a:ln>
        </p:spPr>
      </p:pic>
      <p:pic>
        <p:nvPicPr>
          <p:cNvPr id="46" name="LMG310_Foto_Produktinfo" descr=""/>
          <p:cNvPicPr/>
          <p:nvPr/>
        </p:nvPicPr>
        <p:blipFill>
          <a:blip r:embed="rId4"/>
          <a:stretch/>
        </p:blipFill>
        <p:spPr>
          <a:xfrm>
            <a:off x="2286000" y="3809880"/>
            <a:ext cx="1509840" cy="1047960"/>
          </a:xfrm>
          <a:prstGeom prst="rect">
            <a:avLst/>
          </a:prstGeom>
          <a:ln w="0">
            <a:noFill/>
          </a:ln>
        </p:spPr>
      </p:pic>
      <p:pic>
        <p:nvPicPr>
          <p:cNvPr id="47" name="LMG450_Foto_Produktinfo" descr=""/>
          <p:cNvPicPr/>
          <p:nvPr/>
        </p:nvPicPr>
        <p:blipFill>
          <a:blip r:embed="rId5"/>
          <a:stretch/>
        </p:blipFill>
        <p:spPr>
          <a:xfrm>
            <a:off x="5486400" y="2666880"/>
            <a:ext cx="1523880" cy="1059120"/>
          </a:xfrm>
          <a:prstGeom prst="rect">
            <a:avLst/>
          </a:prstGeom>
          <a:ln w="0">
            <a:noFill/>
          </a:ln>
        </p:spPr>
      </p:pic>
      <p:pic>
        <p:nvPicPr>
          <p:cNvPr id="48" name="pqa" descr=""/>
          <p:cNvPicPr/>
          <p:nvPr/>
        </p:nvPicPr>
        <p:blipFill>
          <a:blip r:embed="rId6"/>
          <a:stretch/>
        </p:blipFill>
        <p:spPr>
          <a:xfrm>
            <a:off x="5486400" y="3809880"/>
            <a:ext cx="1523880" cy="10940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QA_ppt" descr=""/>
          <p:cNvPicPr/>
          <p:nvPr/>
        </p:nvPicPr>
        <p:blipFill>
          <a:blip r:embed="rId1"/>
          <a:stretch/>
        </p:blipFill>
        <p:spPr>
          <a:xfrm>
            <a:off x="4800600" y="990720"/>
            <a:ext cx="3809880" cy="190476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304920" y="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66"/>
                </a:solidFill>
                <a:latin typeface="Arial"/>
              </a:rPr>
              <a:t>Clientele of PQA45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04920" y="6248520"/>
            <a:ext cx="8458200" cy="1522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zeslogo_1" descr=""/>
          <p:cNvPicPr/>
          <p:nvPr/>
        </p:nvPicPr>
        <p:blipFill>
          <a:blip r:embed="rId2"/>
          <a:stretch/>
        </p:blipFill>
        <p:spPr>
          <a:xfrm>
            <a:off x="5638680" y="6095880"/>
            <a:ext cx="2743200" cy="45432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28600" y="990720"/>
            <a:ext cx="4267080" cy="304560"/>
          </a:xfrm>
          <a:prstGeom prst="roundRect">
            <a:avLst>
              <a:gd name="adj" fmla="val 16667"/>
            </a:avLst>
          </a:prstGeom>
          <a:solidFill>
            <a:srgbClr val="ffff99">
              <a:alpha val="50000"/>
            </a:srgbClr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99"/>
                </a:solidFill>
                <a:latin typeface="Arial"/>
              </a:rPr>
              <a:t>Supply utili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28600" y="2133720"/>
            <a:ext cx="4343400" cy="380880"/>
          </a:xfrm>
          <a:prstGeom prst="roundRect">
            <a:avLst>
              <a:gd name="adj" fmla="val 16667"/>
            </a:avLst>
          </a:prstGeom>
          <a:solidFill>
            <a:srgbClr val="ffff00">
              <a:alpha val="50000"/>
            </a:srgbClr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Manufacturers of motors,  converter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28600" y="2590920"/>
            <a:ext cx="4343400" cy="380880"/>
          </a:xfrm>
          <a:prstGeom prst="roundRect">
            <a:avLst>
              <a:gd name="adj" fmla="val 16667"/>
            </a:avLst>
          </a:prstGeom>
          <a:solidFill>
            <a:srgbClr val="ffff00">
              <a:alpha val="50000"/>
            </a:srgbClr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Manufacturers of electrical applian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28600" y="3048120"/>
            <a:ext cx="4343400" cy="380880"/>
          </a:xfrm>
          <a:prstGeom prst="roundRect">
            <a:avLst>
              <a:gd name="adj" fmla="val 16667"/>
            </a:avLst>
          </a:prstGeom>
          <a:solidFill>
            <a:srgbClr val="ffff00">
              <a:alpha val="50000"/>
            </a:srgbClr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Heavy industry pla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429000" y="762120"/>
            <a:ext cx="914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28600" y="3505320"/>
            <a:ext cx="4343400" cy="380880"/>
          </a:xfrm>
          <a:prstGeom prst="roundRect">
            <a:avLst>
              <a:gd name="adj" fmla="val 16667"/>
            </a:avLst>
          </a:prstGeom>
          <a:solidFill>
            <a:srgbClr val="ffff00">
              <a:alpha val="50000"/>
            </a:srgbClr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Big contract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3962520"/>
            <a:ext cx="4343400" cy="380880"/>
          </a:xfrm>
          <a:prstGeom prst="roundRect">
            <a:avLst>
              <a:gd name="adj" fmla="val 16667"/>
            </a:avLst>
          </a:prstGeom>
          <a:solidFill>
            <a:srgbClr val="ffff00">
              <a:alpha val="50000"/>
            </a:srgbClr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Project and consulting engineering grou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28600" y="685800"/>
            <a:ext cx="868680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304920" y="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66"/>
                </a:solidFill>
                <a:latin typeface="Arial"/>
              </a:rPr>
              <a:t>Measuring with PQA45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04920" y="6248520"/>
            <a:ext cx="8458200" cy="1522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zeslogo_1" descr=""/>
          <p:cNvPicPr/>
          <p:nvPr/>
        </p:nvPicPr>
        <p:blipFill>
          <a:blip r:embed="rId1"/>
          <a:stretch/>
        </p:blipFill>
        <p:spPr>
          <a:xfrm>
            <a:off x="5638680" y="6095880"/>
            <a:ext cx="2743200" cy="4543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228600" y="685800"/>
            <a:ext cx="868680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LMG%20450" descr=""/>
          <p:cNvPicPr/>
          <p:nvPr/>
        </p:nvPicPr>
        <p:blipFill>
          <a:blip r:embed="rId2"/>
          <a:stretch/>
        </p:blipFill>
        <p:spPr>
          <a:xfrm>
            <a:off x="3200400" y="3048120"/>
            <a:ext cx="2590920" cy="127476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3"/>
          <a:stretch/>
        </p:blipFill>
        <p:spPr>
          <a:xfrm>
            <a:off x="914400" y="914400"/>
            <a:ext cx="1676520" cy="124632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4"/>
          <a:stretch/>
        </p:blipFill>
        <p:spPr>
          <a:xfrm>
            <a:off x="2666880" y="990720"/>
            <a:ext cx="1185840" cy="1295280"/>
          </a:xfrm>
          <a:prstGeom prst="rect">
            <a:avLst/>
          </a:prstGeom>
          <a:ln w="0">
            <a:noFill/>
          </a:ln>
        </p:spPr>
      </p:pic>
      <p:grpSp>
        <p:nvGrpSpPr>
          <p:cNvPr id="188" name=""/>
          <p:cNvGrpSpPr/>
          <p:nvPr/>
        </p:nvGrpSpPr>
        <p:grpSpPr>
          <a:xfrm>
            <a:off x="1523880" y="2362320"/>
            <a:ext cx="1752480" cy="1447560"/>
            <a:chOff x="1523880" y="2362320"/>
            <a:chExt cx="1752480" cy="1447560"/>
          </a:xfrm>
        </p:grpSpPr>
        <p:grpSp>
          <p:nvGrpSpPr>
            <p:cNvPr id="189" name=""/>
            <p:cNvGrpSpPr/>
            <p:nvPr/>
          </p:nvGrpSpPr>
          <p:grpSpPr>
            <a:xfrm>
              <a:off x="2057400" y="2362320"/>
              <a:ext cx="1218600" cy="1295280"/>
              <a:chOff x="2057400" y="2362320"/>
              <a:chExt cx="1218600" cy="1295280"/>
            </a:xfrm>
          </p:grpSpPr>
          <p:sp>
            <p:nvSpPr>
              <p:cNvPr id="190" name=""/>
              <p:cNvSpPr/>
              <p:nvPr/>
            </p:nvSpPr>
            <p:spPr>
              <a:xfrm>
                <a:off x="2361960" y="2362320"/>
                <a:ext cx="0" cy="129528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2361960" y="3657600"/>
                <a:ext cx="914040" cy="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2057400" y="2895480"/>
                <a:ext cx="106668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GB" sz="1800" spc="-1" strike="noStrike">
                    <a:solidFill>
                      <a:srgbClr val="000066"/>
                    </a:solidFill>
                    <a:latin typeface="Arial"/>
                  </a:rPr>
                  <a:t>4xU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3" name=""/>
            <p:cNvSpPr/>
            <p:nvPr/>
          </p:nvSpPr>
          <p:spPr>
            <a:xfrm>
              <a:off x="1828800" y="2362320"/>
              <a:ext cx="0" cy="144756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828800" y="3809880"/>
              <a:ext cx="144756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523880" y="2895480"/>
              <a:ext cx="60948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66"/>
                  </a:solidFill>
                  <a:latin typeface="Arial"/>
                </a:rPr>
                <a:t>4x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96" name="" descr=""/>
          <p:cNvPicPr/>
          <p:nvPr/>
        </p:nvPicPr>
        <p:blipFill>
          <a:blip r:embed="rId5"/>
          <a:stretch/>
        </p:blipFill>
        <p:spPr>
          <a:xfrm>
            <a:off x="5715000" y="83808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6"/>
          <a:stretch/>
        </p:blipFill>
        <p:spPr>
          <a:xfrm>
            <a:off x="838080" y="4572000"/>
            <a:ext cx="1258920" cy="113652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7"/>
          <a:stretch/>
        </p:blipFill>
        <p:spPr>
          <a:xfrm>
            <a:off x="7162920" y="4648320"/>
            <a:ext cx="1258920" cy="113652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8"/>
          <a:stretch/>
        </p:blipFill>
        <p:spPr>
          <a:xfrm>
            <a:off x="7391520" y="838080"/>
            <a:ext cx="1245960" cy="1295640"/>
          </a:xfrm>
          <a:prstGeom prst="rect">
            <a:avLst/>
          </a:prstGeom>
          <a:ln w="0">
            <a:noFill/>
          </a:ln>
        </p:spPr>
      </p:pic>
      <p:grpSp>
        <p:nvGrpSpPr>
          <p:cNvPr id="200" name=""/>
          <p:cNvGrpSpPr/>
          <p:nvPr/>
        </p:nvGrpSpPr>
        <p:grpSpPr>
          <a:xfrm>
            <a:off x="5715000" y="2514600"/>
            <a:ext cx="2561760" cy="1143000"/>
            <a:chOff x="5715000" y="2514600"/>
            <a:chExt cx="2561760" cy="1143000"/>
          </a:xfrm>
        </p:grpSpPr>
        <p:sp>
          <p:nvSpPr>
            <p:cNvPr id="201" name=""/>
            <p:cNvSpPr/>
            <p:nvPr/>
          </p:nvSpPr>
          <p:spPr>
            <a:xfrm>
              <a:off x="5715000" y="3657600"/>
              <a:ext cx="11430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858000" y="2514600"/>
              <a:ext cx="0" cy="11430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801040" y="2743200"/>
              <a:ext cx="2475720" cy="64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ff0000"/>
                  </a:solidFill>
                  <a:latin typeface="Arial"/>
                </a:rPr>
                <a:t>Additional analogu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ff0000"/>
                  </a:solidFill>
                  <a:latin typeface="Arial"/>
                </a:rPr>
                <a:t>and digital in- / outpu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715000" y="3657600"/>
              <a:ext cx="11430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1828440" y="4114800"/>
            <a:ext cx="2595240" cy="1219320"/>
            <a:chOff x="1828440" y="4114800"/>
            <a:chExt cx="2595240" cy="1219320"/>
          </a:xfrm>
        </p:grpSpPr>
        <p:sp>
          <p:nvSpPr>
            <p:cNvPr id="206" name=""/>
            <p:cNvSpPr/>
            <p:nvPr/>
          </p:nvSpPr>
          <p:spPr>
            <a:xfrm>
              <a:off x="3352680" y="4114800"/>
              <a:ext cx="0" cy="1219320"/>
            </a:xfrm>
            <a:prstGeom prst="line">
              <a:avLst/>
            </a:prstGeom>
            <a:ln w="3816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 flipH="1">
              <a:off x="1828440" y="5334120"/>
              <a:ext cx="1523880" cy="0"/>
            </a:xfrm>
            <a:prstGeom prst="line">
              <a:avLst/>
            </a:prstGeom>
            <a:ln w="3816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287800" y="4648320"/>
              <a:ext cx="213588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99ff"/>
                  </a:solidFill>
                  <a:latin typeface="Arial"/>
                </a:rPr>
                <a:t>USB link, GPIB lin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9" name=""/>
          <p:cNvGrpSpPr/>
          <p:nvPr/>
        </p:nvGrpSpPr>
        <p:grpSpPr>
          <a:xfrm>
            <a:off x="4803120" y="4114800"/>
            <a:ext cx="2359080" cy="1219320"/>
            <a:chOff x="4803120" y="4114800"/>
            <a:chExt cx="2359080" cy="1219320"/>
          </a:xfrm>
        </p:grpSpPr>
        <p:sp>
          <p:nvSpPr>
            <p:cNvPr id="210" name=""/>
            <p:cNvSpPr/>
            <p:nvPr/>
          </p:nvSpPr>
          <p:spPr>
            <a:xfrm>
              <a:off x="5638680" y="4114800"/>
              <a:ext cx="0" cy="1219320"/>
            </a:xfrm>
            <a:prstGeom prst="line">
              <a:avLst/>
            </a:prstGeom>
            <a:ln w="3816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 flipH="1">
              <a:off x="5638320" y="5334120"/>
              <a:ext cx="1523880" cy="0"/>
            </a:xfrm>
            <a:prstGeom prst="line">
              <a:avLst/>
            </a:prstGeom>
            <a:ln w="3816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803120" y="4495680"/>
              <a:ext cx="1665000" cy="64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99ff"/>
                  </a:solidFill>
                  <a:latin typeface="Arial"/>
                </a:rPr>
                <a:t>Etherne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99ff"/>
                  </a:solidFill>
                  <a:latin typeface="Arial"/>
                </a:rPr>
                <a:t>(LAN or direc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13" name="NDL_ppt" descr=""/>
          <p:cNvPicPr/>
          <p:nvPr/>
        </p:nvPicPr>
        <p:blipFill>
          <a:blip r:embed="rId9"/>
          <a:stretch/>
        </p:blipFill>
        <p:spPr>
          <a:xfrm>
            <a:off x="3276720" y="4114800"/>
            <a:ext cx="2438280" cy="2365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304920" y="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66"/>
                </a:solidFill>
                <a:latin typeface="Arial"/>
              </a:rPr>
              <a:t>Processing the Measuring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4920" y="6248520"/>
            <a:ext cx="8458200" cy="1522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zeslogo_1" descr=""/>
          <p:cNvPicPr/>
          <p:nvPr/>
        </p:nvPicPr>
        <p:blipFill>
          <a:blip r:embed="rId1"/>
          <a:stretch/>
        </p:blipFill>
        <p:spPr>
          <a:xfrm>
            <a:off x="5638680" y="6095880"/>
            <a:ext cx="2743200" cy="45432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228600" y="685800"/>
            <a:ext cx="868680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33520" y="1143000"/>
            <a:ext cx="83055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Evaluation according EN501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Presentation all measured values in time do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Statistical and regression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Estimation of voltage dips and swe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Analysis of voltage and current wavefo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Evaluation of ripple control signals (signalling voltag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Printing and copying all pictures and text protoc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Export of measured data in ASCII-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304920" y="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66"/>
                </a:solidFill>
                <a:latin typeface="Arial"/>
              </a:rPr>
              <a:t>EN50160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04920" y="6248520"/>
            <a:ext cx="8458200" cy="1522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1" name="zeslogo_1" descr=""/>
          <p:cNvPicPr/>
          <p:nvPr/>
        </p:nvPicPr>
        <p:blipFill>
          <a:blip r:embed="rId1"/>
          <a:stretch/>
        </p:blipFill>
        <p:spPr>
          <a:xfrm>
            <a:off x="5638680" y="6095880"/>
            <a:ext cx="2743200" cy="45432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228600" y="685800"/>
            <a:ext cx="868680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228600" y="762120"/>
            <a:ext cx="5867280" cy="353196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152280" y="762120"/>
            <a:ext cx="7010640" cy="1904760"/>
          </a:xfrm>
          <a:prstGeom prst="wedgeEllipseCallout">
            <a:avLst>
              <a:gd name="adj1" fmla="val 61527"/>
              <a:gd name="adj2" fmla="val 82666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480720" y="3276720"/>
            <a:ext cx="2297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0000"/>
                </a:solidFill>
                <a:latin typeface="Arial"/>
              </a:rPr>
              <a:t>Test results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0000"/>
                </a:solidFill>
                <a:latin typeface="Arial"/>
              </a:rPr>
              <a:t>percentage of val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i="1" lang="en-GB" sz="1800" spc="-1" strike="noStrike">
                <a:solidFill>
                  <a:srgbClr val="ff0000"/>
                </a:solidFill>
                <a:latin typeface="Arial"/>
              </a:rPr>
              <a:t>inside the toler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0" y="2514600"/>
            <a:ext cx="6019920" cy="1752480"/>
          </a:xfrm>
          <a:prstGeom prst="wedgeEllipseCallout">
            <a:avLst>
              <a:gd name="adj1" fmla="val -41009"/>
              <a:gd name="adj2" fmla="val 92481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08880" y="5029200"/>
            <a:ext cx="360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0000"/>
                </a:solidFill>
                <a:latin typeface="Arial"/>
              </a:rPr>
              <a:t>Detailed description of test resul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304920" y="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66"/>
                </a:solidFill>
                <a:latin typeface="Arial"/>
              </a:rPr>
              <a:t>Detailed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04920" y="6248520"/>
            <a:ext cx="8458200" cy="1522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zeslogo_1" descr=""/>
          <p:cNvPicPr/>
          <p:nvPr/>
        </p:nvPicPr>
        <p:blipFill>
          <a:blip r:embed="rId1"/>
          <a:stretch/>
        </p:blipFill>
        <p:spPr>
          <a:xfrm>
            <a:off x="5638680" y="6095880"/>
            <a:ext cx="2743200" cy="45432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228600" y="685800"/>
            <a:ext cx="868680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228600" y="838080"/>
            <a:ext cx="5410080" cy="277992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152280" y="1143000"/>
            <a:ext cx="6019920" cy="838080"/>
          </a:xfrm>
          <a:prstGeom prst="wedgeEllipseCallout">
            <a:avLst>
              <a:gd name="adj1" fmla="val 80087"/>
              <a:gd name="adj2" fmla="val 70833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480720" y="2133720"/>
            <a:ext cx="2602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0000"/>
                </a:solidFill>
                <a:latin typeface="Arial"/>
              </a:rPr>
              <a:t>Maximum and minim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0000"/>
                </a:solidFill>
                <a:latin typeface="Arial"/>
              </a:rPr>
              <a:t>of the analysed value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0000"/>
                </a:solidFill>
                <a:latin typeface="Arial"/>
              </a:rPr>
              <a:t>test resul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52280" y="1905120"/>
            <a:ext cx="5791320" cy="1523880"/>
          </a:xfrm>
          <a:prstGeom prst="wedgeEllipseCallout">
            <a:avLst>
              <a:gd name="adj1" fmla="val -49069"/>
              <a:gd name="adj2" fmla="val 94689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08880" y="403848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0000"/>
                </a:solidFill>
                <a:latin typeface="Arial"/>
              </a:rPr>
              <a:t>Time plot of the analysed 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3"/>
          <a:stretch/>
        </p:blipFill>
        <p:spPr>
          <a:xfrm>
            <a:off x="914400" y="2133720"/>
            <a:ext cx="7658280" cy="39337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304920" y="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66"/>
                </a:solidFill>
                <a:latin typeface="Arial"/>
              </a:rPr>
              <a:t>Analysis of Measured Val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04920" y="6248520"/>
            <a:ext cx="8458200" cy="1522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0" name="zeslogo_1" descr=""/>
          <p:cNvPicPr/>
          <p:nvPr/>
        </p:nvPicPr>
        <p:blipFill>
          <a:blip r:embed="rId1"/>
          <a:stretch/>
        </p:blipFill>
        <p:spPr>
          <a:xfrm>
            <a:off x="5638680" y="6095880"/>
            <a:ext cx="2743200" cy="45432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228600" y="685800"/>
            <a:ext cx="868680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228600" y="914400"/>
            <a:ext cx="7162920" cy="243684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380880" y="1371600"/>
            <a:ext cx="7562880" cy="257184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4"/>
          <a:stretch/>
        </p:blipFill>
        <p:spPr>
          <a:xfrm>
            <a:off x="838080" y="1981080"/>
            <a:ext cx="7562880" cy="257184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5"/>
          <a:stretch/>
        </p:blipFill>
        <p:spPr>
          <a:xfrm>
            <a:off x="1447920" y="2666880"/>
            <a:ext cx="7391160" cy="29718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304920" y="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66"/>
                </a:solidFill>
                <a:latin typeface="Arial"/>
              </a:rPr>
              <a:t>Evaluating Voltage Di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04920" y="6248520"/>
            <a:ext cx="8458200" cy="1522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8" name="zeslogo_1" descr=""/>
          <p:cNvPicPr/>
          <p:nvPr/>
        </p:nvPicPr>
        <p:blipFill>
          <a:blip r:embed="rId1"/>
          <a:stretch/>
        </p:blipFill>
        <p:spPr>
          <a:xfrm>
            <a:off x="5638680" y="6095880"/>
            <a:ext cx="2743200" cy="45432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>
            <a:off x="228600" y="685800"/>
            <a:ext cx="868680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228600" y="762120"/>
            <a:ext cx="7067520" cy="503856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152280" y="914400"/>
            <a:ext cx="4724640" cy="838080"/>
          </a:xfrm>
          <a:prstGeom prst="wedgeEllipseCallout">
            <a:avLst>
              <a:gd name="adj1" fmla="val 109240"/>
              <a:gd name="adj2" fmla="val -4736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7238880" y="914400"/>
            <a:ext cx="16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0000"/>
                </a:solidFill>
                <a:latin typeface="Arial"/>
              </a:rPr>
              <a:t>Duration and dep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0" y="2971800"/>
            <a:ext cx="7772400" cy="2438280"/>
          </a:xfrm>
          <a:prstGeom prst="wedgeEllipseCallout">
            <a:avLst>
              <a:gd name="adj1" fmla="val 50388"/>
              <a:gd name="adj2" fmla="val -89842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238880" y="1905120"/>
            <a:ext cx="1619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0000"/>
                </a:solidFill>
                <a:latin typeface="Arial"/>
              </a:rPr>
              <a:t>Plo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i="1" lang="en-GB" sz="1800" spc="-1" strike="noStrike">
                <a:solidFill>
                  <a:srgbClr val="ff0000"/>
                </a:solidFill>
                <a:latin typeface="Arial"/>
              </a:rPr>
              <a:t>depth-duratio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304920" y="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66"/>
                </a:solidFill>
                <a:latin typeface="Arial"/>
              </a:rPr>
              <a:t>Displaying the Voltage Profi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04920" y="6248520"/>
            <a:ext cx="8458200" cy="1522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7" name="zeslogo_1" descr=""/>
          <p:cNvPicPr/>
          <p:nvPr/>
        </p:nvPicPr>
        <p:blipFill>
          <a:blip r:embed="rId1"/>
          <a:stretch/>
        </p:blipFill>
        <p:spPr>
          <a:xfrm>
            <a:off x="5638680" y="6095880"/>
            <a:ext cx="2743200" cy="45432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228600" y="685800"/>
            <a:ext cx="868680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914400" y="914400"/>
            <a:ext cx="7562880" cy="257184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919800" y="3657600"/>
            <a:ext cx="500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Displaying the 10ms values of the line volta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Pre- and post-triggering time can be defi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304920" y="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66"/>
                </a:solidFill>
                <a:latin typeface="Arial"/>
              </a:rPr>
              <a:t>Waveform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04920" y="6248520"/>
            <a:ext cx="8458200" cy="1522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3" name="zeslogo_1" descr=""/>
          <p:cNvPicPr/>
          <p:nvPr/>
        </p:nvPicPr>
        <p:blipFill>
          <a:blip r:embed="rId1"/>
          <a:stretch/>
        </p:blipFill>
        <p:spPr>
          <a:xfrm>
            <a:off x="5638680" y="6095880"/>
            <a:ext cx="2743200" cy="45432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/>
          <p:nvPr/>
        </p:nvSpPr>
        <p:spPr>
          <a:xfrm>
            <a:off x="228600" y="685800"/>
            <a:ext cx="868680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tretch/>
        </p:blipFill>
        <p:spPr>
          <a:xfrm>
            <a:off x="685800" y="990720"/>
            <a:ext cx="7562880" cy="257148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690120" y="3657600"/>
            <a:ext cx="456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The waveforms are recorded as ev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Sampling rate can be chosen up to 50 kH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304920" y="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66"/>
                </a:solidFill>
                <a:latin typeface="Arial"/>
              </a:rPr>
              <a:t>Analysis of Main Signall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04920" y="6248520"/>
            <a:ext cx="8458200" cy="1522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zeslogo_1" descr=""/>
          <p:cNvPicPr/>
          <p:nvPr/>
        </p:nvPicPr>
        <p:blipFill>
          <a:blip r:embed="rId1"/>
          <a:stretch/>
        </p:blipFill>
        <p:spPr>
          <a:xfrm>
            <a:off x="5638680" y="6095880"/>
            <a:ext cx="2743200" cy="454320"/>
          </a:xfrm>
          <a:prstGeom prst="rect">
            <a:avLst/>
          </a:prstGeom>
          <a:ln w="0">
            <a:noFill/>
          </a:ln>
        </p:spPr>
      </p:pic>
      <p:sp>
        <p:nvSpPr>
          <p:cNvPr id="270" name=""/>
          <p:cNvSpPr/>
          <p:nvPr/>
        </p:nvSpPr>
        <p:spPr>
          <a:xfrm>
            <a:off x="228600" y="685800"/>
            <a:ext cx="868680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92640" y="3657600"/>
            <a:ext cx="7082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The centre frequency of main signalling must be chosen in adv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The signalling voltages are recorded as ev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While analysing you are able to see a “voltage telegram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228600" y="838080"/>
            <a:ext cx="7562880" cy="25718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5257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66"/>
                </a:solidFill>
                <a:latin typeface="Arial"/>
              </a:rPr>
              <a:t>Core Competenc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04920" y="6248520"/>
            <a:ext cx="8458200" cy="1522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zeslogo_1" descr=""/>
          <p:cNvPicPr/>
          <p:nvPr/>
        </p:nvPicPr>
        <p:blipFill>
          <a:blip r:embed="rId1"/>
          <a:stretch/>
        </p:blipFill>
        <p:spPr>
          <a:xfrm>
            <a:off x="5638680" y="6095880"/>
            <a:ext cx="2743200" cy="4543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990720" y="762120"/>
            <a:ext cx="7162560" cy="1295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Precision Measurement Technolog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on Power, Energy, Harmonics, Fli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Power Quality and Disturbance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28600" y="685800"/>
            <a:ext cx="868680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666880" y="3276720"/>
            <a:ext cx="4038840" cy="13716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Power Analysers LM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for Measur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on Components, Devices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Appliances and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520" y="2209680"/>
            <a:ext cx="3200400" cy="9144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66"/>
                </a:solidFill>
                <a:latin typeface="Arial"/>
              </a:rPr>
              <a:t>Properties of Produ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66"/>
                </a:solidFill>
                <a:latin typeface="Arial"/>
              </a:rPr>
              <a:t>LMG95, LMG310, LMG4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791320" y="2209680"/>
            <a:ext cx="3200400" cy="9144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66"/>
                </a:solidFill>
                <a:latin typeface="Arial"/>
              </a:rPr>
              <a:t>Product Influ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66"/>
                </a:solidFill>
                <a:latin typeface="Arial"/>
              </a:rPr>
              <a:t>SYS61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048120" y="5105520"/>
            <a:ext cx="3200400" cy="9144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66"/>
                </a:solidFill>
                <a:latin typeface="Arial"/>
              </a:rPr>
              <a:t>Network Proper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66"/>
                </a:solidFill>
                <a:latin typeface="Arial"/>
              </a:rPr>
              <a:t>PQA4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3650000">
            <a:off x="1447560" y="3429000"/>
            <a:ext cx="1295280" cy="533520"/>
          </a:xfrm>
          <a:prstGeom prst="rightArrow">
            <a:avLst>
              <a:gd name="adj1" fmla="val 50000"/>
              <a:gd name="adj2" fmla="val 60695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rot="7950000">
            <a:off x="6629040" y="3352680"/>
            <a:ext cx="1295280" cy="533520"/>
          </a:xfrm>
          <a:prstGeom prst="rightArrow">
            <a:avLst>
              <a:gd name="adj1" fmla="val 50000"/>
              <a:gd name="adj2" fmla="val 60695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rot="16204800">
            <a:off x="4494960" y="4572000"/>
            <a:ext cx="380880" cy="5331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9880" y="2666880"/>
            <a:ext cx="182880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1218960" y="1218600"/>
            <a:ext cx="3199680" cy="4419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4724640" y="1218240"/>
            <a:ext cx="3199680" cy="4419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304920" y="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66"/>
                </a:solidFill>
                <a:latin typeface="Arial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04920" y="6248520"/>
            <a:ext cx="8458200" cy="1522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5" name="zeslogo_1" descr=""/>
          <p:cNvPicPr/>
          <p:nvPr/>
        </p:nvPicPr>
        <p:blipFill>
          <a:blip r:embed="rId1"/>
          <a:stretch/>
        </p:blipFill>
        <p:spPr>
          <a:xfrm>
            <a:off x="5638680" y="6095880"/>
            <a:ext cx="2743200" cy="45432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228600" y="685800"/>
            <a:ext cx="868680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0880" y="914400"/>
            <a:ext cx="83059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Modern power quality monitoring requires a high-precise measurement of customer’s behavio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Most of the existing measuring tools are not able to fulfil an accurate measurement on power electronic equi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The PQA450 combines the capability of a power quality analyser with properties of high-performance power me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It can be used for power quality monitoring as well as for analysis of power electronic equipment with long-term data logg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7696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66"/>
                </a:solidFill>
                <a:latin typeface="Arial"/>
              </a:rPr>
              <a:t>Functionality of ZES Power Me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04920" y="6248520"/>
            <a:ext cx="8458200" cy="1522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zeslogo_1" descr=""/>
          <p:cNvPicPr/>
          <p:nvPr/>
        </p:nvPicPr>
        <p:blipFill>
          <a:blip r:embed="rId1"/>
          <a:stretch/>
        </p:blipFill>
        <p:spPr>
          <a:xfrm>
            <a:off x="5638680" y="6095880"/>
            <a:ext cx="2743200" cy="4543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1066680" y="1143000"/>
            <a:ext cx="7162920" cy="1295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Measuring tools for pow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electronic equipment, electrical network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and appli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895480"/>
            <a:ext cx="7162920" cy="7621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Power electronic in industrial and household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2120" y="3809880"/>
            <a:ext cx="7162560" cy="7621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Power generation, transmission and distribution equi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3000" y="4724280"/>
            <a:ext cx="7162920" cy="7621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Electrical networ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52280" y="3733920"/>
            <a:ext cx="609840" cy="1828800"/>
          </a:xfrm>
          <a:custGeom>
            <a:avLst/>
            <a:gdLst>
              <a:gd name="textAreaLeft" fmla="*/ 81720 w 609840"/>
              <a:gd name="textAreaRight" fmla="*/ 528120 w 609840"/>
              <a:gd name="textAreaTop" fmla="*/ 320040 h 1828800"/>
              <a:gd name="textAreaBottom" fmla="*/ 13258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rot="10800000">
            <a:off x="8305560" y="3352680"/>
            <a:ext cx="609480" cy="1905120"/>
          </a:xfrm>
          <a:custGeom>
            <a:avLst/>
            <a:gdLst>
              <a:gd name="textAreaLeft" fmla="*/ 81360 w 609480"/>
              <a:gd name="textAreaRight" fmla="*/ 528120 w 609480"/>
              <a:gd name="textAreaTop" fmla="*/ 333360 h 1905120"/>
              <a:gd name="textAreaBottom" fmla="*/ 1381320 h 1905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8600" y="685800"/>
            <a:ext cx="868680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" name=""/>
          <p:cNvGrpSpPr/>
          <p:nvPr/>
        </p:nvGrpSpPr>
        <p:grpSpPr>
          <a:xfrm>
            <a:off x="819720" y="980280"/>
            <a:ext cx="6839280" cy="4872240"/>
            <a:chOff x="819720" y="980280"/>
            <a:chExt cx="6839280" cy="4872240"/>
          </a:xfrm>
        </p:grpSpPr>
        <p:sp>
          <p:nvSpPr>
            <p:cNvPr id="75" name=""/>
            <p:cNvSpPr/>
            <p:nvPr/>
          </p:nvSpPr>
          <p:spPr>
            <a:xfrm rot="1138800">
              <a:off x="1143000" y="1905120"/>
              <a:ext cx="6192720" cy="302256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96969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908000" y="1981080"/>
              <a:ext cx="2006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Quality assuran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" name=""/>
          <p:cNvGrpSpPr/>
          <p:nvPr/>
        </p:nvGrpSpPr>
        <p:grpSpPr>
          <a:xfrm>
            <a:off x="3949920" y="785880"/>
            <a:ext cx="4563720" cy="5084640"/>
            <a:chOff x="3949920" y="785880"/>
            <a:chExt cx="4563720" cy="5084640"/>
          </a:xfrm>
        </p:grpSpPr>
        <p:sp>
          <p:nvSpPr>
            <p:cNvPr id="78" name=""/>
            <p:cNvSpPr/>
            <p:nvPr/>
          </p:nvSpPr>
          <p:spPr>
            <a:xfrm rot="18298800">
              <a:off x="3970080" y="2125440"/>
              <a:ext cx="4523040" cy="2405160"/>
            </a:xfrm>
            <a:prstGeom prst="ellips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373800" y="1100160"/>
              <a:ext cx="1523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search &amp; develop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762120" y="4038480"/>
            <a:ext cx="1676160" cy="1371600"/>
            <a:chOff x="762120" y="4038480"/>
            <a:chExt cx="1676160" cy="1371600"/>
          </a:xfrm>
        </p:grpSpPr>
        <p:sp>
          <p:nvSpPr>
            <p:cNvPr id="81" name=""/>
            <p:cNvSpPr/>
            <p:nvPr/>
          </p:nvSpPr>
          <p:spPr>
            <a:xfrm>
              <a:off x="762120" y="4191120"/>
              <a:ext cx="1676160" cy="1218960"/>
            </a:xfrm>
            <a:prstGeom prst="ellipse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42040" y="4038480"/>
              <a:ext cx="1535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Maintainan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" name=""/>
          <p:cNvGrpSpPr/>
          <p:nvPr/>
        </p:nvGrpSpPr>
        <p:grpSpPr>
          <a:xfrm>
            <a:off x="443160" y="838080"/>
            <a:ext cx="8700840" cy="5092920"/>
            <a:chOff x="443160" y="838080"/>
            <a:chExt cx="8700840" cy="5092920"/>
          </a:xfrm>
        </p:grpSpPr>
        <p:sp>
          <p:nvSpPr>
            <p:cNvPr id="84" name=""/>
            <p:cNvSpPr/>
            <p:nvPr/>
          </p:nvSpPr>
          <p:spPr>
            <a:xfrm>
              <a:off x="443160" y="838080"/>
              <a:ext cx="1820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ahoma"/>
                </a:rPr>
                <a:t>Basic Accuracy [%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548840" y="5105520"/>
              <a:ext cx="1595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ahoma"/>
                </a:rPr>
                <a:t>Bandwidth [Hz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V="1">
              <a:off x="766800" y="1218960"/>
              <a:ext cx="0" cy="426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66800" y="5486400"/>
              <a:ext cx="7620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66800" y="4495680"/>
              <a:ext cx="7239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6800" y="3200400"/>
              <a:ext cx="7239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66800" y="1981080"/>
              <a:ext cx="7239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V="1">
              <a:off x="2443320" y="1295280"/>
              <a:ext cx="0" cy="419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V="1">
              <a:off x="4119840" y="1295280"/>
              <a:ext cx="0" cy="419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V="1">
              <a:off x="5796000" y="1295280"/>
              <a:ext cx="0" cy="419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V="1">
              <a:off x="7472520" y="1295280"/>
              <a:ext cx="0" cy="419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214720" y="5562720"/>
              <a:ext cx="556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1K                    10K                    100K                    1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" name=""/>
          <p:cNvSpPr/>
          <p:nvPr/>
        </p:nvSpPr>
        <p:spPr>
          <a:xfrm>
            <a:off x="228600" y="1752480"/>
            <a:ext cx="685800" cy="32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0,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0,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30040" y="52560"/>
            <a:ext cx="435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66"/>
                </a:solidFill>
                <a:latin typeface="Arial"/>
              </a:rPr>
              <a:t>Main Application Fiel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04920" y="6248520"/>
            <a:ext cx="8458200" cy="1522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zeslogo_1" descr=""/>
          <p:cNvPicPr/>
          <p:nvPr/>
        </p:nvPicPr>
        <p:blipFill>
          <a:blip r:embed="rId4"/>
          <a:stretch/>
        </p:blipFill>
        <p:spPr>
          <a:xfrm>
            <a:off x="5638680" y="6095880"/>
            <a:ext cx="2743200" cy="454320"/>
          </a:xfrm>
          <a:prstGeom prst="rect">
            <a:avLst/>
          </a:prstGeom>
          <a:ln w="0">
            <a:noFill/>
          </a:ln>
        </p:spPr>
      </p:pic>
      <p:grpSp>
        <p:nvGrpSpPr>
          <p:cNvPr id="100" name=""/>
          <p:cNvGrpSpPr/>
          <p:nvPr/>
        </p:nvGrpSpPr>
        <p:grpSpPr>
          <a:xfrm>
            <a:off x="1671840" y="4495680"/>
            <a:ext cx="1351080" cy="1080360"/>
            <a:chOff x="1671840" y="4495680"/>
            <a:chExt cx="1351080" cy="1080360"/>
          </a:xfrm>
        </p:grpSpPr>
        <p:sp>
          <p:nvSpPr>
            <p:cNvPr id="101" name=""/>
            <p:cNvSpPr/>
            <p:nvPr/>
          </p:nvSpPr>
          <p:spPr>
            <a:xfrm>
              <a:off x="1671840" y="5299560"/>
              <a:ext cx="1351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ahoma"/>
                </a:rPr>
                <a:t>TM39 0.2% 2kH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2" name="tm39_cee" descr=""/>
            <p:cNvPicPr/>
            <p:nvPr/>
          </p:nvPicPr>
          <p:blipFill>
            <a:blip r:embed="rId5"/>
            <a:stretch/>
          </p:blipFill>
          <p:spPr>
            <a:xfrm>
              <a:off x="1801080" y="4495680"/>
              <a:ext cx="1123920" cy="894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3" name=""/>
          <p:cNvGrpSpPr/>
          <p:nvPr/>
        </p:nvGrpSpPr>
        <p:grpSpPr>
          <a:xfrm>
            <a:off x="1738800" y="2895480"/>
            <a:ext cx="1877040" cy="1297440"/>
            <a:chOff x="1738800" y="2895480"/>
            <a:chExt cx="1877040" cy="1297440"/>
          </a:xfrm>
        </p:grpSpPr>
        <p:sp>
          <p:nvSpPr>
            <p:cNvPr id="104" name=""/>
            <p:cNvSpPr/>
            <p:nvPr/>
          </p:nvSpPr>
          <p:spPr>
            <a:xfrm>
              <a:off x="1738800" y="3885840"/>
              <a:ext cx="187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ahoma"/>
                </a:rPr>
                <a:t>LMG90 0.02% 50kH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5" name="LMG90_1" descr=""/>
            <p:cNvPicPr/>
            <p:nvPr/>
          </p:nvPicPr>
          <p:blipFill>
            <a:blip r:embed="rId6"/>
            <a:stretch/>
          </p:blipFill>
          <p:spPr>
            <a:xfrm>
              <a:off x="1752480" y="2895480"/>
              <a:ext cx="1752480" cy="1157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6" name=""/>
          <p:cNvGrpSpPr/>
          <p:nvPr/>
        </p:nvGrpSpPr>
        <p:grpSpPr>
          <a:xfrm>
            <a:off x="3657600" y="3657600"/>
            <a:ext cx="1928520" cy="1105560"/>
            <a:chOff x="3657600" y="3657600"/>
            <a:chExt cx="1928520" cy="1105560"/>
          </a:xfrm>
        </p:grpSpPr>
        <p:sp>
          <p:nvSpPr>
            <p:cNvPr id="107" name=""/>
            <p:cNvSpPr/>
            <p:nvPr/>
          </p:nvSpPr>
          <p:spPr>
            <a:xfrm>
              <a:off x="3709080" y="4456080"/>
              <a:ext cx="187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ahoma"/>
                </a:rPr>
                <a:t>LMG450 0.1% 20kH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8" name="LMG%20450" descr=""/>
            <p:cNvPicPr/>
            <p:nvPr/>
          </p:nvPicPr>
          <p:blipFill>
            <a:blip r:embed="rId7"/>
            <a:stretch/>
          </p:blipFill>
          <p:spPr>
            <a:xfrm>
              <a:off x="3657600" y="3657600"/>
              <a:ext cx="1890720" cy="930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9" name=""/>
          <p:cNvGrpSpPr/>
          <p:nvPr/>
        </p:nvGrpSpPr>
        <p:grpSpPr>
          <a:xfrm>
            <a:off x="586080" y="1066680"/>
            <a:ext cx="2215440" cy="1069200"/>
            <a:chOff x="586080" y="1066680"/>
            <a:chExt cx="2215440" cy="1069200"/>
          </a:xfrm>
        </p:grpSpPr>
        <p:sp>
          <p:nvSpPr>
            <p:cNvPr id="110" name=""/>
            <p:cNvSpPr/>
            <p:nvPr/>
          </p:nvSpPr>
          <p:spPr>
            <a:xfrm>
              <a:off x="586080" y="1828800"/>
              <a:ext cx="2215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ahoma"/>
                </a:rPr>
                <a:t>LMG95-Ref 0.015% 50H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1" name="lmg95" descr=""/>
            <p:cNvPicPr/>
            <p:nvPr/>
          </p:nvPicPr>
          <p:blipFill>
            <a:blip r:embed="rId8"/>
            <a:stretch/>
          </p:blipFill>
          <p:spPr>
            <a:xfrm>
              <a:off x="754200" y="1066680"/>
              <a:ext cx="1814400" cy="903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2" name=""/>
          <p:cNvGrpSpPr/>
          <p:nvPr/>
        </p:nvGrpSpPr>
        <p:grpSpPr>
          <a:xfrm>
            <a:off x="5772240" y="2895480"/>
            <a:ext cx="2081160" cy="1297440"/>
            <a:chOff x="5772240" y="2895480"/>
            <a:chExt cx="2081160" cy="1297440"/>
          </a:xfrm>
        </p:grpSpPr>
        <p:sp>
          <p:nvSpPr>
            <p:cNvPr id="113" name=""/>
            <p:cNvSpPr/>
            <p:nvPr/>
          </p:nvSpPr>
          <p:spPr>
            <a:xfrm>
              <a:off x="5772240" y="3885840"/>
              <a:ext cx="2081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ahoma"/>
                </a:rPr>
                <a:t>LMG310 0.05% 400kH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4" name="LMG%20310" descr=""/>
            <p:cNvPicPr/>
            <p:nvPr/>
          </p:nvPicPr>
          <p:blipFill>
            <a:blip r:embed="rId9"/>
            <a:stretch/>
          </p:blipFill>
          <p:spPr>
            <a:xfrm>
              <a:off x="5791320" y="2895480"/>
              <a:ext cx="2043000" cy="1119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5" name=""/>
          <p:cNvGrpSpPr/>
          <p:nvPr/>
        </p:nvGrpSpPr>
        <p:grpSpPr>
          <a:xfrm>
            <a:off x="6605280" y="1828800"/>
            <a:ext cx="1978920" cy="1069200"/>
            <a:chOff x="6605280" y="1828800"/>
            <a:chExt cx="1978920" cy="1069200"/>
          </a:xfrm>
        </p:grpSpPr>
        <p:sp>
          <p:nvSpPr>
            <p:cNvPr id="116" name=""/>
            <p:cNvSpPr/>
            <p:nvPr/>
          </p:nvSpPr>
          <p:spPr>
            <a:xfrm>
              <a:off x="6605280" y="2590920"/>
              <a:ext cx="1978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ahoma"/>
                </a:rPr>
                <a:t>LMG95 0.02% 500kH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7" name="lmg95" descr=""/>
            <p:cNvPicPr/>
            <p:nvPr/>
          </p:nvPicPr>
          <p:blipFill>
            <a:blip r:embed="rId10"/>
            <a:stretch/>
          </p:blipFill>
          <p:spPr>
            <a:xfrm>
              <a:off x="6686640" y="1828800"/>
              <a:ext cx="1814400" cy="903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8" name=""/>
          <p:cNvGrpSpPr/>
          <p:nvPr/>
        </p:nvGrpSpPr>
        <p:grpSpPr>
          <a:xfrm>
            <a:off x="4187880" y="4191120"/>
            <a:ext cx="1918080" cy="1145160"/>
            <a:chOff x="4187880" y="4191120"/>
            <a:chExt cx="1918080" cy="1145160"/>
          </a:xfrm>
        </p:grpSpPr>
        <p:pic>
          <p:nvPicPr>
            <p:cNvPr id="119" name="PQA_ppt" descr=""/>
            <p:cNvPicPr/>
            <p:nvPr/>
          </p:nvPicPr>
          <p:blipFill>
            <a:blip r:embed="rId11"/>
            <a:stretch/>
          </p:blipFill>
          <p:spPr>
            <a:xfrm>
              <a:off x="4267440" y="4191120"/>
              <a:ext cx="1676160" cy="83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"/>
            <p:cNvSpPr/>
            <p:nvPr/>
          </p:nvSpPr>
          <p:spPr>
            <a:xfrm>
              <a:off x="4187880" y="5029200"/>
              <a:ext cx="191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PQA 450 0,1% 20kH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228600" y="685800"/>
            <a:ext cx="868680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304920" y="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66"/>
                </a:solidFill>
                <a:latin typeface="Arial"/>
              </a:rPr>
              <a:t>Power Quality Monitoring Objecti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04920" y="6248520"/>
            <a:ext cx="8458200" cy="1522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zeslogo_1" descr=""/>
          <p:cNvPicPr/>
          <p:nvPr/>
        </p:nvPicPr>
        <p:blipFill>
          <a:blip r:embed="rId1"/>
          <a:stretch/>
        </p:blipFill>
        <p:spPr>
          <a:xfrm>
            <a:off x="5638680" y="6095880"/>
            <a:ext cx="2743200" cy="4543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457200" y="1905120"/>
            <a:ext cx="807732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Power quality serv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Characterising system 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Characterising specific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Describing the current sit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28600" y="685800"/>
            <a:ext cx="868680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304920" y="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66"/>
                </a:solidFill>
                <a:latin typeface="Arial"/>
              </a:rPr>
              <a:t>Selecting the Monitoring</a:t>
            </a:r>
            <a:r>
              <a:rPr b="1" i="1" lang="en-GB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i="1" lang="en-GB" sz="3200" spc="-1" strike="noStrike">
                <a:solidFill>
                  <a:srgbClr val="000066"/>
                </a:solidFill>
                <a:latin typeface="Arial"/>
              </a:rPr>
              <a:t>Equip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04920" y="6248520"/>
            <a:ext cx="8458200" cy="1522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zeslogo_1" descr=""/>
          <p:cNvPicPr/>
          <p:nvPr/>
        </p:nvPicPr>
        <p:blipFill>
          <a:blip r:embed="rId1"/>
          <a:stretch/>
        </p:blipFill>
        <p:spPr>
          <a:xfrm>
            <a:off x="5638680" y="6095880"/>
            <a:ext cx="2743200" cy="45432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533520" y="1600200"/>
            <a:ext cx="754380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Low-cost instruments (measurement and display of the present resul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rail mounted devices for continuous monitoring and events recor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„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black-box“ analysers with logging capabil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High performance analysers with logging and visualis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28600" y="685800"/>
            <a:ext cx="868680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04920" y="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66"/>
                </a:solidFill>
                <a:latin typeface="Arial"/>
              </a:rPr>
              <a:t>Objects of Power Quality Monito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04920" y="6248520"/>
            <a:ext cx="8458200" cy="1522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zeslogo_1" descr=""/>
          <p:cNvPicPr/>
          <p:nvPr/>
        </p:nvPicPr>
        <p:blipFill>
          <a:blip r:embed="rId1"/>
          <a:stretch/>
        </p:blipFill>
        <p:spPr>
          <a:xfrm>
            <a:off x="5638680" y="6095880"/>
            <a:ext cx="2743200" cy="45432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533520" y="2057400"/>
            <a:ext cx="75438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Custo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Interaction of customer and 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28600" y="685800"/>
            <a:ext cx="868680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304920" y="914400"/>
            <a:ext cx="2514600" cy="51814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6248520"/>
            <a:ext cx="8458200" cy="1522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zeslogo_1" descr=""/>
          <p:cNvPicPr/>
          <p:nvPr/>
        </p:nvPicPr>
        <p:blipFill>
          <a:blip r:embed="rId1"/>
          <a:stretch/>
        </p:blipFill>
        <p:spPr>
          <a:xfrm>
            <a:off x="5638680" y="6095880"/>
            <a:ext cx="2743200" cy="45432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2895480" y="990720"/>
            <a:ext cx="2590920" cy="7617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PQ monitor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791320" y="990720"/>
            <a:ext cx="2590560" cy="7617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Power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-11160" y="2133720"/>
            <a:ext cx="783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Measurement site                         Network                          Appli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-11880" y="2743200"/>
            <a:ext cx="862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Usually used tools                      PQ Analyser                    Power meter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-12600" y="3352680"/>
            <a:ext cx="8224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Needed capabilities                     Analysis of                         Long ter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                                                      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customer                         data logg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                                                     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behaviou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27160" y="5105520"/>
            <a:ext cx="238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The solution 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4572000" y="4800600"/>
            <a:ext cx="2286000" cy="1143000"/>
            <a:chOff x="4572000" y="4800600"/>
            <a:chExt cx="2286000" cy="1143000"/>
          </a:xfrm>
        </p:grpSpPr>
        <p:pic>
          <p:nvPicPr>
            <p:cNvPr id="147" name="PQA_ppt" descr=""/>
            <p:cNvPicPr/>
            <p:nvPr/>
          </p:nvPicPr>
          <p:blipFill>
            <a:blip r:embed="rId2"/>
            <a:stretch/>
          </p:blipFill>
          <p:spPr>
            <a:xfrm>
              <a:off x="4572000" y="4800600"/>
              <a:ext cx="2286000" cy="114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"/>
            <p:cNvSpPr/>
            <p:nvPr/>
          </p:nvSpPr>
          <p:spPr>
            <a:xfrm>
              <a:off x="5032080" y="5105520"/>
              <a:ext cx="1348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66"/>
                  </a:solidFill>
                  <a:latin typeface="Arial"/>
                </a:rPr>
                <a:t>PQA45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28600" y="685800"/>
            <a:ext cx="868680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04920" y="0"/>
            <a:ext cx="81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66"/>
                </a:solidFill>
                <a:latin typeface="Arial"/>
              </a:rPr>
              <a:t>Power Quality Analysers vs. Power Meter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3505320" y="4419720"/>
            <a:ext cx="1066680" cy="1218960"/>
          </a:xfrm>
          <a:custGeom>
            <a:avLst/>
            <a:gdLst>
              <a:gd name="textAreaLeft" fmla="*/ 0 w 1066680"/>
              <a:gd name="textAreaRight" fmla="*/ 1067040 w 1066680"/>
              <a:gd name="textAreaTop" fmla="*/ 360 h 1218960"/>
              <a:gd name="textAreaBottom" fmla="*/ 1219680 h 12189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7885" stAng="10800000" swAng="5400000"/>
                <a:lnTo>
                  <a:pt x="15107" y="4275"/>
                </a:lnTo>
                <a:lnTo>
                  <a:pt x="15107" y="0"/>
                </a:lnTo>
                <a:lnTo>
                  <a:pt x="21600" y="6079"/>
                </a:lnTo>
                <a:lnTo>
                  <a:pt x="15107" y="12158"/>
                </a:lnTo>
                <a:lnTo>
                  <a:pt x="15107" y="7883"/>
                </a:lnTo>
                <a:lnTo>
                  <a:pt x="12427" y="7883"/>
                </a:lnTo>
                <a:arcTo wR="8819" hR="4277" stAng="16200000" swAng="-5400000"/>
                <a:lnTo>
                  <a:pt x="3608" y="21600"/>
                </a:lnTo>
                <a:close/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H="1" flipV="1">
            <a:off x="6857280" y="4419720"/>
            <a:ext cx="1066680" cy="1218960"/>
          </a:xfrm>
          <a:custGeom>
            <a:avLst/>
            <a:gdLst>
              <a:gd name="textAreaLeft" fmla="*/ -360 w 1066680"/>
              <a:gd name="textAreaRight" fmla="*/ 1066680 w 1066680"/>
              <a:gd name="textAreaTop" fmla="*/ 360 h 1218960"/>
              <a:gd name="textAreaBottom" fmla="*/ 1219680 h 12189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7885" stAng="10800000" swAng="5400000"/>
                <a:lnTo>
                  <a:pt x="15107" y="4275"/>
                </a:lnTo>
                <a:lnTo>
                  <a:pt x="15107" y="0"/>
                </a:lnTo>
                <a:lnTo>
                  <a:pt x="21600" y="6079"/>
                </a:lnTo>
                <a:lnTo>
                  <a:pt x="15107" y="12158"/>
                </a:lnTo>
                <a:lnTo>
                  <a:pt x="15107" y="7883"/>
                </a:lnTo>
                <a:lnTo>
                  <a:pt x="12427" y="7883"/>
                </a:lnTo>
                <a:arcTo wR="8819" hR="4277" stAng="16200000" swAng="-5400000"/>
                <a:lnTo>
                  <a:pt x="3608" y="21600"/>
                </a:lnTo>
                <a:close/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QA_ppt" descr=""/>
          <p:cNvPicPr/>
          <p:nvPr/>
        </p:nvPicPr>
        <p:blipFill>
          <a:blip r:embed="rId1"/>
          <a:stretch/>
        </p:blipFill>
        <p:spPr>
          <a:xfrm>
            <a:off x="5105520" y="914400"/>
            <a:ext cx="3809880" cy="190512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304920" y="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66"/>
                </a:solidFill>
                <a:latin typeface="Arial"/>
              </a:rPr>
              <a:t>What can PQA450 d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04920" y="6248520"/>
            <a:ext cx="8458200" cy="1522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zeslogo_1" descr=""/>
          <p:cNvPicPr/>
          <p:nvPr/>
        </p:nvPicPr>
        <p:blipFill>
          <a:blip r:embed="rId2"/>
          <a:stretch/>
        </p:blipFill>
        <p:spPr>
          <a:xfrm>
            <a:off x="5638680" y="6095880"/>
            <a:ext cx="2743200" cy="45432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228600" y="914400"/>
            <a:ext cx="4724280" cy="304920"/>
          </a:xfrm>
          <a:prstGeom prst="roundRect">
            <a:avLst>
              <a:gd name="adj" fmla="val 16667"/>
            </a:avLst>
          </a:prstGeom>
          <a:solidFill>
            <a:srgbClr val="ffff99">
              <a:alpha val="50000"/>
            </a:srgbClr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99"/>
                </a:solidFill>
                <a:latin typeface="Arial"/>
              </a:rPr>
              <a:t>Analysis according EN5016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28600" y="3581280"/>
            <a:ext cx="4724280" cy="381240"/>
          </a:xfrm>
          <a:prstGeom prst="roundRect">
            <a:avLst>
              <a:gd name="adj" fmla="val 16667"/>
            </a:avLst>
          </a:prstGeom>
          <a:solidFill>
            <a:srgbClr val="ffff00">
              <a:alpha val="50000"/>
            </a:srgbClr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Displaying recent results (on-lin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28600" y="1295280"/>
            <a:ext cx="4724280" cy="304920"/>
          </a:xfrm>
          <a:prstGeom prst="roundRect">
            <a:avLst>
              <a:gd name="adj" fmla="val 16667"/>
            </a:avLst>
          </a:prstGeom>
          <a:solidFill>
            <a:srgbClr val="ffff99">
              <a:alpha val="50000"/>
            </a:srgbClr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99"/>
                </a:solidFill>
                <a:latin typeface="Arial"/>
              </a:rPr>
              <a:t>Long-term data logg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2286000"/>
            <a:ext cx="4724280" cy="304920"/>
          </a:xfrm>
          <a:prstGeom prst="roundRect">
            <a:avLst>
              <a:gd name="adj" fmla="val 16667"/>
            </a:avLst>
          </a:prstGeom>
          <a:solidFill>
            <a:srgbClr val="ffff99">
              <a:alpha val="50000"/>
            </a:srgbClr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99"/>
                </a:solidFill>
                <a:latin typeface="Arial"/>
              </a:rPr>
              <a:t>Analysis and visualisation of resul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28600" y="2666880"/>
            <a:ext cx="4724280" cy="304920"/>
          </a:xfrm>
          <a:prstGeom prst="roundRect">
            <a:avLst>
              <a:gd name="adj" fmla="val 16667"/>
            </a:avLst>
          </a:prstGeom>
          <a:solidFill>
            <a:srgbClr val="ffff99">
              <a:alpha val="50000"/>
            </a:srgbClr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99"/>
                </a:solidFill>
                <a:latin typeface="Arial"/>
              </a:rPr>
              <a:t>Data analysis during the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28600" y="3048120"/>
            <a:ext cx="4724280" cy="304560"/>
          </a:xfrm>
          <a:prstGeom prst="roundRect">
            <a:avLst>
              <a:gd name="adj" fmla="val 16667"/>
            </a:avLst>
          </a:prstGeom>
          <a:solidFill>
            <a:srgbClr val="ffff99">
              <a:alpha val="50000"/>
            </a:srgbClr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99"/>
                </a:solidFill>
                <a:latin typeface="Arial"/>
              </a:rPr>
              <a:t>Control and data transfer over Ether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28600" y="4038480"/>
            <a:ext cx="4724280" cy="533520"/>
          </a:xfrm>
          <a:prstGeom prst="roundRect">
            <a:avLst>
              <a:gd name="adj" fmla="val 16667"/>
            </a:avLst>
          </a:prstGeom>
          <a:solidFill>
            <a:srgbClr val="ffff00">
              <a:alpha val="50000"/>
            </a:srgbClr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All measured values wi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resolution of 200 ms (10 ms for voltag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28600" y="4648320"/>
            <a:ext cx="4724280" cy="380880"/>
          </a:xfrm>
          <a:prstGeom prst="roundRect">
            <a:avLst>
              <a:gd name="adj" fmla="val 16667"/>
            </a:avLst>
          </a:prstGeom>
          <a:solidFill>
            <a:srgbClr val="ffff00">
              <a:alpha val="50000"/>
            </a:srgbClr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Bandwidth 20 kHz, accuracy 0,1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28600" y="5105520"/>
            <a:ext cx="4724280" cy="609480"/>
          </a:xfrm>
          <a:prstGeom prst="roundRect">
            <a:avLst>
              <a:gd name="adj" fmla="val 16667"/>
            </a:avLst>
          </a:prstGeom>
          <a:solidFill>
            <a:srgbClr val="ffff00">
              <a:alpha val="50000"/>
            </a:srgbClr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Accurate power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for small cos </a:t>
            </a:r>
            <a:r>
              <a:rPr b="1" lang="en-GB" sz="2000" spc="-1" strike="noStrike">
                <a:solidFill>
                  <a:srgbClr val="000066"/>
                </a:solidFill>
                <a:latin typeface="Symbol"/>
                <a:ea typeface="Symbol"/>
              </a:rPr>
              <a:t>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600" y="5791320"/>
            <a:ext cx="4724280" cy="380880"/>
          </a:xfrm>
          <a:prstGeom prst="roundRect">
            <a:avLst>
              <a:gd name="adj" fmla="val 16667"/>
            </a:avLst>
          </a:prstGeom>
          <a:solidFill>
            <a:srgbClr val="ffff00">
              <a:alpha val="50000"/>
            </a:srgbClr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Additional analogue and digital inpu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28600" y="685800"/>
            <a:ext cx="868680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28600" y="1676520"/>
            <a:ext cx="4724280" cy="533160"/>
          </a:xfrm>
          <a:prstGeom prst="roundRect">
            <a:avLst>
              <a:gd name="adj" fmla="val 16667"/>
            </a:avLst>
          </a:prstGeom>
          <a:solidFill>
            <a:srgbClr val="ffff99">
              <a:alpha val="50000"/>
            </a:srgbClr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99"/>
                </a:solidFill>
                <a:latin typeface="Arial"/>
              </a:rPr>
              <a:t>Registration of ev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99"/>
                </a:solidFill>
                <a:latin typeface="Arial"/>
              </a:rPr>
              <a:t>(r.m.s. values, curve forms, main signallin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10T20:01:16Z</dcterms:created>
  <dc:creator>Dr.-Ing. Alexander Kuznietsov</dc:creator>
  <dc:description/>
  <dc:language>en-US</dc:language>
  <cp:lastModifiedBy>A. Kuznietsov</cp:lastModifiedBy>
  <cp:lastPrinted>2003-08-25T12:40:32Z</cp:lastPrinted>
  <dcterms:modified xsi:type="dcterms:W3CDTF">2003-08-25T12:41:26Z</dcterms:modified>
  <cp:revision>41</cp:revision>
  <dc:subject/>
  <dc:title>PQA450</dc:title>
</cp:coreProperties>
</file>